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D9E8-B027-47F6-B701-B6F7D5F05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96EC-1D50-4D58-B63C-2B63B6CF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51A7AB-2EBE-4E91-842B-9B5B3D6C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833E4A-F0DC-468D-AE78-7E2F201A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6A950B-0526-4883-B8E5-D0588D24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299030-6042-4B79-9B41-BD97D4CA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FA42A7-0EB5-4CC0-BBB5-447E25BC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002F09-E69A-4460-84C4-102C7AB7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8D31A2-1E41-4F89-8636-234B0341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44E6D8-6851-4955-B2BE-E6445A58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846E3D-A673-4BA7-B1BA-A3B426DFBC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3983B-4C25-4E0D-9366-7752919CD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5544-9643-4E4D-84B7-813DE533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3B8B7-3939-4C54-BDA8-CD8B7DA4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8E8F-2587-4425-A386-AB31D24C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6AEF0-86D3-4DEB-B199-744807D3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38E76-A38E-46D7-8BA4-0ADF9F1C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D47E5-1C36-4CEB-AF6F-80D70E75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786F7-211C-4EB2-BC18-BA851A41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C7CA8-9905-4EDA-917E-4C0FBE5B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4A92E-A990-4C86-9F0E-F94B5DB4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6E94C-FC77-4CE5-8477-32E83FFB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BA169-7473-44F0-93DC-0DE67FA3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E436-B587-42E5-941E-E26E3C0A8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6A736-7FF7-4647-A2F4-F73FF6B39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6A0090-87A6-4239-9B7C-9B38F37AC8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C7DE1-48EF-4A18-AAAE-B5136055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80649-2532-4A12-BA80-3FC1171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2AB6E-9D62-4104-843A-60951BF1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F8A4CE-99E1-40D6-9286-9597ED6D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A4FEBB-7FE6-4EED-A073-FE25B835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724E76-100C-45F0-8269-A03ABDED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0ABE2-30E8-4ACA-B048-6A00D600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B5F7E8-174A-4EC2-AA9A-8EB0A7A5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D5039-FB1D-4710-8647-7EDA140B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1257B9-5B25-45EE-A127-59967F12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5074D0-D375-4850-A6A7-B89DCC0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628DB2-70E0-4DFA-89C6-B192328E9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EE4E9E-FA2A-4E19-8A93-327B484A91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E5F89-1608-44EE-86E2-A4DE16B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8868E-A0A7-4016-829A-88E38B1C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56243-3184-4BEB-9DC9-AC11C7A1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DB13E-D20B-4479-82BC-A994965A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DAECE-C09A-4020-A4E7-CCF54E2E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3F5BD-551A-4E6F-98ED-9444B8D6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A5134-0DC2-4D3B-9FBB-0FB08C17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4A119-5DD9-4B61-BA5A-E28F7BEC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977E7-7EB4-433B-8B18-A2410143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30AF7-D93D-494E-B651-F8A83D09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C7B96-CD37-4DAE-A7F5-2F39448D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9F87F-5392-4182-807F-589E4E7A72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93F4E-9FA8-4810-BC43-70EB4C497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06FF8-29E2-4FB4-8B91-7F5C62B3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6E563-A2EF-466A-821E-8511BE41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DA5B5-4572-468F-90B8-A5E37E69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A78BF-2132-456D-A0E7-0DB653FF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49E07-0248-4D1C-8F16-832B7301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50101-FEE4-474D-BFED-FB68083C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5EB63-5AD4-4163-8018-91306B6B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9D06D-49A1-41B0-B3A4-0109411B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93065-5F91-4870-B397-0EF149D4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CD1CD-46AC-4EBB-8E68-A1908337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F7C63-953B-4658-9EA7-1480290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465A7-D3AF-4007-9C7F-ED5FDE3190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2D3C9-0AED-4CFE-A7E8-1E5ECF3C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53059-7966-4CA8-97D8-A2E006AF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4D5EE-41C3-4F27-B566-6A2C6B55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C8C11-BCCE-4E0D-93B2-9C8A6090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665F0-D45E-4B99-9F0B-19AA2826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7C144-8E61-43F5-8AAD-A3BAFEDE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5C565-A44B-49C1-B0B5-BD2016F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42D31-EB5E-49FD-94D9-ABA2FFE9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A4522-2452-4AC6-BD62-E248BFD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01849-9C97-4679-8CF6-5B7A4B29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AED1E-6DC9-4B89-9B30-CF7A7B53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566DD-B9BD-4751-AC55-82E65AB2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6ACAA-AD00-4B96-A009-18E33BF6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2DF33-CFA9-4330-BF4E-D5410066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CC693-7DED-4F7D-AED4-8550BC08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964A1-3E03-435A-95F4-6BE8484C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5CEB9-DDA5-47E2-B43E-F528AAE6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C8C55-C197-4D03-B7B2-F4C53998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82A4C-39AA-41EC-8B79-DAF60E8B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474B4-A8F4-406A-BA1D-D7AA40F8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DC114-2CD7-457C-A0DA-62A6E55E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2D6D5-A9E2-44E0-B2A2-DD63C789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3BD8D-C8F5-4306-BFC3-96CC1BA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B0635-4CBF-4CC3-92C6-DC974DD2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B5781-895D-42F9-93B4-BCBFF6AB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17192-FFCF-42D4-B786-908D6A83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CC085-6978-4712-AB97-7CC157B3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672F8-797E-4A20-A92C-9D3CE3B1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FE190-9FD1-477F-BC56-B4772472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E14C9-A4E4-48C7-A33D-E26DC5FA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CC959-A354-4C78-9132-F8E13787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3352A-795B-4FF5-ADD5-CD49E1D4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ACB22-D6E9-4FA2-BB45-488199AD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BD95D-48FB-47E9-8BC3-A6BB917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F87CD-E877-4776-A88F-2F5C8AA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03FD8-7656-435C-A304-2B187CB2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77757-9552-4950-A585-341C0CF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83E39-7DD1-4619-A5A1-9417239A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2E1F4-682C-4387-A7EC-9F26154A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C6327-EF84-4C4A-AC83-128D6803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0B5DA-FB42-48AB-B845-555DA798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58216-CFEE-475F-9EF1-DCC1E819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90649-9773-47DE-827E-588C2471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814E5-5779-4B65-9DA3-754E213B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87CF7-7550-4880-9721-EECED35F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65908-7BEE-4A0D-928C-4C0E8FCA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1F8BD-DBC2-47B3-B789-1EA0771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D79A-6E60-4E6E-80A0-239D85D6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F8B94-7FBA-491E-AEA0-77AD9FB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5B012-5B0C-43FA-8818-00B8FEC3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E1BEE-441E-4D88-9F4F-7E84B556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A15E2-654D-46F8-8C3A-4611A795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B758E-7F64-44EE-851B-3FD65AFA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85063-0786-4381-A317-399A8236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57C0D-F849-42EE-A633-398D6DA9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99D3C-C557-4A11-B45B-58C20BA2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51189-3249-4D29-9134-4063E838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66D02-9DB0-4A45-8C06-052B1D5C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15BD8-2AEF-4C19-9217-6064526A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889D3-0DAD-4375-89B2-DF291E7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F13AC-AB49-4795-B7DE-0B89B700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72EC2B-CA8F-4D90-BC84-B8CC5C47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8B65B-5AAA-4C5E-8987-00B3C1D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4365D-7E56-48D3-BF1A-DF72C990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F775C-1379-4232-A94A-7541BBA2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4B184-83A2-434E-8363-8E2881C4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78237-A9B2-4614-B776-58D1A75F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98C5F-60F6-4608-A77B-496B64FD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BAED2-9B53-4EC9-8182-E342FCE9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598F07-B17B-471C-A849-8059224C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1F1FE-6C76-4ED8-A586-B4484046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191CA-797B-4879-A90F-B7BB1C5F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4DAFE-E9AD-42DB-B0F8-9E3AE501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241BC-1298-457B-B2A8-F4AFCA50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61BC6-3F56-4EA7-8596-2A1C6783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74266-9474-4B0E-B9DF-47FB1D1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25271-C42B-4A51-98CE-0F586B4C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F8210-75CC-4F3C-AF29-C756865B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BB23F-CA4D-4F8F-8BC2-447E91A7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8270A-F06D-45AB-96B2-F5621946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43D10-EBF4-4994-91C7-2DCFB96E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C1932-09BF-41AB-9413-9920611A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1F8FE-9D1A-4E03-B00A-C3466FD8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C57A2-6BAD-40EC-8493-3EA3CFA6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4BE80-8175-48D6-A0CA-886E9D09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FA72D-03BA-4C23-B37E-15F217E9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BE4E2-9E8B-4578-BA6E-370E6E90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B9B22-AB59-4B2A-838C-73934DF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ADAA8-3934-44F3-B1DF-460A4A6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FC8E2-52AA-484A-AA97-0C2C0BC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C250E4-EC1D-4227-B79B-865ED211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3917F-0AD4-444D-BD55-9C3BA087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2BFD9-EF7C-4E67-AF46-A7CEE47C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B9985-204D-4F0A-B979-7DDE1A1C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9DE1C3-C164-4B23-B13A-708E24D3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1097D-BF25-46A0-80DA-FFC9E298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DCC83-C00A-4D5D-91DC-934C2866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29EED-931B-4A53-BBF6-021091D5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B8C88-DA1E-40E2-8316-4CC1F799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8986C-A3C9-4369-A25D-6B0E8AE6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B2CB9-EFAC-4E9E-8457-19BB1E7E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5D538-7E8C-42BD-92BF-9CDF9F3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F39AE8-929D-4494-9DBE-B9AFD798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28B0C-EF88-4440-820A-96072FA6D5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2960A-04DC-4ED5-965C-AD74C20D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5824B8-9EE5-4623-8B86-AA1B129F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ED91C-3615-4A24-9197-847A3F9E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053287-3EE8-4F3C-8F7F-D781B99A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00524-AEAE-44CF-AC3E-16A530B4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10C020-2A47-4AA3-8F92-F0186D81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A3BC2E-8DE4-40AE-94EB-5929CCC8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5DBDB6-9EBB-4C37-867B-CE717734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5C3BC4-A9B0-4024-8D31-D503D310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7FDFE-DFAF-41C3-9322-2F7D158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2926C-4127-4152-BA1F-24A26C10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631B0-78D7-4FAF-9E5C-6262AD71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14734-C800-4435-A49D-E9A573FF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7EB88-ED9D-4C6D-9767-89148EC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8BC109-464D-45A5-B04C-7986FD1C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70CA0-93E6-471C-84E0-519F2C2E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D3C54A-9670-415A-9AA0-CEB21341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C3428-7CEA-4F7E-A14E-FAA93043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4C621-2D19-4160-B891-9545E5B2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A7B66-D544-442E-A2D1-22664074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676F5-C9B7-49CA-90C0-2A68AB4D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B831E4-4F9C-49B0-B014-D23B2D95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37AE0-B13C-4DC8-AD44-F6B03A73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4B6C3-C00D-40A2-9F90-89F196AC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917AC-5281-463E-A3F3-8506E2F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D933B5-10B1-4A86-BD10-EBD188C8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C4CEC8-D83E-4379-B005-AA49C468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5EC53-10F9-4FED-A4FA-F007DEC1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53471-0667-4D6E-BA01-0D40F842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798C58-4071-4B8A-AD20-493D3F9D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B65ADD-1329-468F-9BF5-63C599D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727013-9EF5-41A9-B32B-7B933A2A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5C14B-ECBC-40D8-8C33-D4AFEDE3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8134C-9E99-4E7A-A2CE-40E047FE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6D56D-8B0F-4879-B0B9-2A6605CB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64A167-E137-4360-A1AE-AF9A9EE8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380BF-1A95-4018-95C0-84F73F0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3674D-48EE-4137-B406-0DCF0DA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E51B8-36C8-40C3-8D36-DE367458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295F20-5AD1-4F02-87FA-1E27B539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C8E508-B7F7-469C-B784-CEF64D3C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C05158-F2BF-4A51-9700-EE4781A2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8E659-DF90-4574-97FD-FA775E4B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A361-5320-4BE9-A46A-B5F744C7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489F9-B9FC-4B9E-BA0F-BF5CD68C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5B14B-45CE-4BA8-917D-4932D5A3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0EEF5-B9B8-410A-9C2A-A79FB4F3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14CA8-CC17-4DC8-AAE9-5CA19D0F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F7F61-3AF2-4627-843A-877EF540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FD037-5B05-4B86-8E9C-23913100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5BC44D-9A4C-4E74-B211-95A9C71AF2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381C3-E2ED-4A11-848E-6BFCD93D7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2827-960B-43E0-B306-694F98AD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207D-02E6-43DB-8440-53169363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EED8-86C5-4BE5-8F53-BE56E446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A9561-CF93-4009-ACD3-BEB7D009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64E4-627B-4312-99A6-C4C10079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B158-9F0D-40F2-B070-1B87B9B7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6DF1-A46D-4FD9-9842-15FC9D9D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6522-49B7-432D-968E-C90FDF99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92C9-9A0A-44CC-B2D7-970AC825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9BD1-AB54-4941-91BD-886576A8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B858E-1EDD-464F-B2B5-95A7A7D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97F0-D6C6-4584-9BE5-73C579748C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6F154-FEE1-495E-B8AC-C7B61DBC6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42BA-C3A4-4FC3-B2D4-215063C8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61AFC-037F-4E4A-BA36-D8E4CF85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2A817-6D26-49B5-B6E1-8056AA91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52965-0192-4C50-9E7F-90A8E736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60F06-FDBB-4A14-971F-778C34D1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3D7F7-DFE4-4E8A-8453-4EF9B9BC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409B0-D22E-4281-A4F4-467FF8E7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87DBE-89B9-47AB-B70F-576A7E6E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5DBB6-453B-4263-AB39-CA18254F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4D31D-1DF9-4853-8AB0-941A054C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23170-8178-4F78-B39B-E8CB37C5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B16F-C39D-449E-A7E7-EEDB5453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007B7-CAE2-4FED-8FC2-03DC47E982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E2422-003B-4D65-BF43-DEC34DAE3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F90E67-BB0F-4E65-ABA7-89B1009C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AD0068-E8F6-4F82-A8A3-CB26101D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864A9F-ED1A-4279-A385-97709093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F3A82-54C6-442D-ABB3-F16CEFFF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3B6941-7A50-4BAB-AACF-558473E6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5C2734-3A40-4BD6-99B8-CC220B29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64159D-FD27-4FCA-946E-0B614902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E1C25-7459-4C7A-B1C8-3E6CCCE3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A3EA-89A9-45F6-8C1C-3269724B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F6CE16-3E1D-40E3-AA44-DFC7EAAE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3102D8-354E-40B7-B3FC-E5266ADC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779B2-78DF-4296-A105-6E15F8635B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D87C-8898-4EAC-86BB-DC8465719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1DB9E-89A3-46FF-BD0C-5CF3CA36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F5019-2482-4941-A601-C8CAFFBB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F9C07-BB8C-498B-A255-861B1CDB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A33C-81B8-45EB-AB3D-4B26ED9C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11DA-DD0C-4FE0-B7E2-584D077B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1444-69FB-49DD-B771-E62F6725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C01F-013B-43FE-B124-2B1669A9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B8D2B-0C77-47D9-837C-75BC546E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DC577-94E7-4F50-988D-5AA04DA3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4D2A8-7BCB-4175-BC21-9416AC35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1906-51FB-4E64-A262-3DAF269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4C520-74C0-46BD-921C-89D517B9A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1CFA3-E7C6-44E1-972B-8F6D0E36EA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A9E18-6340-4683-B507-EA683D3A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9A97F-39F0-458B-BD79-DDAA43DB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DE21C-E767-403C-A815-645FAD57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673A2-54B5-4967-A900-5D1DC784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524A-B073-4691-B006-E9C083B9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DD7B5-3E7A-4753-805D-4EE4C1DC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C0EDA-5BF9-45FD-ADF1-B6CC4B69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EC5F4-BD25-4893-A17F-319834E1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FBE14-7781-4926-91DE-3685EFF6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C198C-6565-43CA-B57A-AE7F1B3F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91C43-1663-439A-94A0-98D47F2D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3952E-45B0-44FD-8D83-CF8ED6CAF1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D86473-4360-4030-988A-407136CBA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DAF0B0-AC38-4D40-821A-FE13ECE0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9F22DB-2B90-4294-98FB-DAB30BBA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095C-C30A-486B-BFDA-4DC1B443C3E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2EB2-2C09-4C6C-8B65-E0E92A0D3A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675B-D9AA-4F05-92F2-1AA9CDD825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A668-7B39-421D-A889-5DA5FC9741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FDD4-93C7-432E-8ACC-6109C73C26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BE56-1D3C-4E83-A971-3104072910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22AE-99B7-4F55-AC18-8CB7176D9EC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0CD-67C6-4C60-B750-57D0D6CAE82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C8FD-85FB-49D3-ABA5-0E88CD15E7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2170-84C6-455D-AD70-103BAC6504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B902-D93F-42CE-945A-1DF2B390CE8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FC73-AA7E-41B1-A5F5-F25F83C4236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2808-25EF-4D4D-B649-98212E9724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BCD7-16EC-453E-B9C2-98FEC5B8AF3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C186-C86A-479C-B8CE-9CC72E09277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B499-A6E9-4056-ACFB-877B7451D97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3412-80F3-4B05-AD5E-157AE8CE4A4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143D-3B08-4C03-A345-882BC6F058B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B262-E4C4-42C4-B314-2852F4C35D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B33D-2EBB-4E96-924B-1DF835F8E6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306A-1BF2-4C64-95FB-7A704FED0F9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AD04-5EDA-45CC-B6B5-264C0360D2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2E6B-1613-4875-8469-C7B8723190C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9073-7339-4218-80D3-1C81C7252A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2436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画 长 方 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9760" y="17445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行四边形和梯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5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文本框 1"/>
          <p:cNvSpPr/>
          <p:nvPr/>
        </p:nvSpPr>
        <p:spPr>
          <a:xfrm>
            <a:off x="568440" y="868320"/>
            <a:ext cx="79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下图中，请你找出能与线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组成长方形的线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组合 18"/>
          <p:cNvGrpSpPr/>
          <p:nvPr/>
        </p:nvGrpSpPr>
        <p:grpSpPr>
          <a:xfrm>
            <a:off x="4257720" y="1397160"/>
            <a:ext cx="2765520" cy="1901160"/>
            <a:chOff x="4257720" y="1397160"/>
            <a:chExt cx="2765520" cy="1901160"/>
          </a:xfrm>
        </p:grpSpPr>
        <p:grpSp>
          <p:nvGrpSpPr>
            <p:cNvPr id="1108" name="组合 7"/>
            <p:cNvGrpSpPr/>
            <p:nvPr/>
          </p:nvGrpSpPr>
          <p:grpSpPr>
            <a:xfrm>
              <a:off x="4579560" y="1626480"/>
              <a:ext cx="2018880" cy="1377000"/>
              <a:chOff x="4579560" y="1626480"/>
              <a:chExt cx="2018880" cy="1377000"/>
            </a:xfrm>
          </p:grpSpPr>
          <p:pic>
            <p:nvPicPr>
              <p:cNvPr id="1109" name="立方体 2" descr=""/>
              <p:cNvPicPr/>
              <p:nvPr/>
            </p:nvPicPr>
            <p:blipFill>
              <a:blip r:embed="rId8"/>
              <a:stretch/>
            </p:blipFill>
            <p:spPr>
              <a:xfrm>
                <a:off x="4584600" y="1636200"/>
                <a:ext cx="2013840" cy="136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0" name="直接连接符 3"/>
              <p:cNvSpPr/>
              <p:nvPr/>
            </p:nvSpPr>
            <p:spPr>
              <a:xfrm flipV="1">
                <a:off x="4579560" y="2624040"/>
                <a:ext cx="389880" cy="37512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直接连接符 4"/>
              <p:cNvSpPr/>
              <p:nvPr/>
            </p:nvSpPr>
            <p:spPr>
              <a:xfrm flipV="1">
                <a:off x="4949280" y="1626480"/>
                <a:ext cx="0" cy="1004040"/>
              </a:xfrm>
              <a:prstGeom prst="line">
                <a:avLst/>
              </a:prstGeom>
              <a:ln w="12600">
                <a:solidFill>
                  <a:srgbClr val="00b0f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直接连接符 6"/>
              <p:cNvSpPr/>
              <p:nvPr/>
            </p:nvSpPr>
            <p:spPr>
              <a:xfrm>
                <a:off x="4941000" y="2630160"/>
                <a:ext cx="1653480" cy="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文本框 8"/>
            <p:cNvSpPr/>
            <p:nvPr/>
          </p:nvSpPr>
          <p:spPr>
            <a:xfrm>
              <a:off x="4286160" y="285840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文本框 9"/>
            <p:cNvSpPr/>
            <p:nvPr/>
          </p:nvSpPr>
          <p:spPr>
            <a:xfrm>
              <a:off x="4257720" y="1799640"/>
              <a:ext cx="4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文本框 10"/>
            <p:cNvSpPr/>
            <p:nvPr/>
          </p:nvSpPr>
          <p:spPr>
            <a:xfrm>
              <a:off x="6195960" y="1860480"/>
              <a:ext cx="4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文本框 12"/>
            <p:cNvSpPr/>
            <p:nvPr/>
          </p:nvSpPr>
          <p:spPr>
            <a:xfrm>
              <a:off x="6229800" y="293004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文本框 14"/>
            <p:cNvSpPr/>
            <p:nvPr/>
          </p:nvSpPr>
          <p:spPr>
            <a:xfrm>
              <a:off x="6598800" y="247320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文本框 15"/>
            <p:cNvSpPr/>
            <p:nvPr/>
          </p:nvSpPr>
          <p:spPr>
            <a:xfrm>
              <a:off x="4864320" y="234072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文本框 16"/>
            <p:cNvSpPr/>
            <p:nvPr/>
          </p:nvSpPr>
          <p:spPr>
            <a:xfrm>
              <a:off x="6513120" y="13971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文本框 17"/>
            <p:cNvSpPr/>
            <p:nvPr/>
          </p:nvSpPr>
          <p:spPr>
            <a:xfrm>
              <a:off x="4617720" y="1397160"/>
              <a:ext cx="4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组合 40"/>
          <p:cNvGrpSpPr/>
          <p:nvPr/>
        </p:nvGrpSpPr>
        <p:grpSpPr>
          <a:xfrm>
            <a:off x="4246560" y="3747960"/>
            <a:ext cx="2763720" cy="1901160"/>
            <a:chOff x="4246560" y="3747960"/>
            <a:chExt cx="2763720" cy="1901160"/>
          </a:xfrm>
        </p:grpSpPr>
        <p:sp>
          <p:nvSpPr>
            <p:cNvPr id="1122" name="平行四边形 39"/>
            <p:cNvSpPr/>
            <p:nvPr/>
          </p:nvSpPr>
          <p:spPr>
            <a:xfrm flipV="1" rot="5400000">
              <a:off x="4894920" y="3665880"/>
              <a:ext cx="1360080" cy="2014920"/>
            </a:xfrm>
            <a:prstGeom prst="parallelogram">
              <a:avLst>
                <a:gd name="adj" fmla="val 26236"/>
              </a:avLst>
            </a:prstGeom>
            <a:solidFill>
              <a:srgbClr val="46e22c"/>
            </a:solidFill>
            <a:ln w="12600">
              <a:solidFill>
                <a:srgbClr val="9595b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组合 19"/>
            <p:cNvGrpSpPr/>
            <p:nvPr/>
          </p:nvGrpSpPr>
          <p:grpSpPr>
            <a:xfrm>
              <a:off x="4246560" y="3747960"/>
              <a:ext cx="2763720" cy="1901160"/>
              <a:chOff x="4246560" y="3747960"/>
              <a:chExt cx="2763720" cy="1901160"/>
            </a:xfrm>
          </p:grpSpPr>
          <p:grpSp>
            <p:nvGrpSpPr>
              <p:cNvPr id="1124" name="组合 20"/>
              <p:cNvGrpSpPr/>
              <p:nvPr/>
            </p:nvGrpSpPr>
            <p:grpSpPr>
              <a:xfrm>
                <a:off x="4567680" y="3977640"/>
                <a:ext cx="2018160" cy="1377360"/>
                <a:chOff x="4567680" y="3977640"/>
                <a:chExt cx="2018160" cy="1377360"/>
              </a:xfrm>
            </p:grpSpPr>
            <p:pic>
              <p:nvPicPr>
                <p:cNvPr id="1125" name="立方体 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567680" y="3987000"/>
                  <a:ext cx="2018160" cy="13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6" name="直接连接符 22"/>
                <p:cNvSpPr/>
                <p:nvPr/>
              </p:nvSpPr>
              <p:spPr>
                <a:xfrm flipV="1">
                  <a:off x="4574520" y="4975200"/>
                  <a:ext cx="388440" cy="37512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直接连接符 23"/>
                <p:cNvSpPr/>
                <p:nvPr/>
              </p:nvSpPr>
              <p:spPr>
                <a:xfrm flipV="1">
                  <a:off x="4942800" y="3977640"/>
                  <a:ext cx="0" cy="1004400"/>
                </a:xfrm>
                <a:prstGeom prst="line">
                  <a:avLst/>
                </a:prstGeom>
                <a:ln w="12600">
                  <a:solidFill>
                    <a:srgbClr val="00b0f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直接连接符 24"/>
                <p:cNvSpPr/>
                <p:nvPr/>
              </p:nvSpPr>
              <p:spPr>
                <a:xfrm>
                  <a:off x="4934520" y="4981680"/>
                  <a:ext cx="1647360" cy="0"/>
                </a:xfrm>
                <a:prstGeom prst="line">
                  <a:avLst/>
                </a:prstGeom>
                <a:ln w="9360">
                  <a:solidFill>
                    <a:srgbClr val="00b0f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文本框 25"/>
              <p:cNvSpPr/>
              <p:nvPr/>
            </p:nvSpPr>
            <p:spPr>
              <a:xfrm>
                <a:off x="4275000" y="5209200"/>
                <a:ext cx="4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文本框 26"/>
              <p:cNvSpPr/>
              <p:nvPr/>
            </p:nvSpPr>
            <p:spPr>
              <a:xfrm>
                <a:off x="4246560" y="4150440"/>
                <a:ext cx="4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文本框 27"/>
              <p:cNvSpPr/>
              <p:nvPr/>
            </p:nvSpPr>
            <p:spPr>
              <a:xfrm>
                <a:off x="6183720" y="4211280"/>
                <a:ext cx="4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文本框 28"/>
              <p:cNvSpPr/>
              <p:nvPr/>
            </p:nvSpPr>
            <p:spPr>
              <a:xfrm>
                <a:off x="6217200" y="5280840"/>
                <a:ext cx="4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文本框 35"/>
              <p:cNvSpPr/>
              <p:nvPr/>
            </p:nvSpPr>
            <p:spPr>
              <a:xfrm>
                <a:off x="6586200" y="4824000"/>
                <a:ext cx="4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文本框 36"/>
              <p:cNvSpPr/>
              <p:nvPr/>
            </p:nvSpPr>
            <p:spPr>
              <a:xfrm>
                <a:off x="4852800" y="4691520"/>
                <a:ext cx="4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文本框 37"/>
              <p:cNvSpPr/>
              <p:nvPr/>
            </p:nvSpPr>
            <p:spPr>
              <a:xfrm>
                <a:off x="6500520" y="3747960"/>
                <a:ext cx="4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文本框 38"/>
              <p:cNvSpPr/>
              <p:nvPr/>
            </p:nvSpPr>
            <p:spPr>
              <a:xfrm>
                <a:off x="4606200" y="3747960"/>
                <a:ext cx="42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7" name="文本框 41"/>
          <p:cNvSpPr/>
          <p:nvPr/>
        </p:nvSpPr>
        <p:spPr>
          <a:xfrm>
            <a:off x="612720" y="40608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如图，与线段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组成长方形的线段有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F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1001880" y="1159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1992240" y="1555920"/>
            <a:ext cx="501372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怎样过直线上一点画这条直线的垂线，如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一点不在直线上，又怎样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怎样过直线外一点画这条直线的平行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什么叫做点到直线的距离？平行线间的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段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2"/>
          <p:cNvSpPr/>
          <p:nvPr/>
        </p:nvSpPr>
        <p:spPr>
          <a:xfrm>
            <a:off x="3274920" y="907920"/>
            <a:ext cx="180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3"/>
          <p:cNvSpPr/>
          <p:nvPr/>
        </p:nvSpPr>
        <p:spPr>
          <a:xfrm>
            <a:off x="1725120" y="1989000"/>
            <a:ext cx="518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长方形中，哪些线段是互相平行的？哪些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互相垂直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4"/>
          <p:cNvSpPr/>
          <p:nvPr/>
        </p:nvSpPr>
        <p:spPr>
          <a:xfrm>
            <a:off x="1889280" y="3859200"/>
            <a:ext cx="48747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怎样画一个长方形呢？因为长方形的对边互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行，相邻的两条边互相垂直，我们可不可以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垂线的方法来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5" name="Rectangle 21"/>
          <p:cNvSpPr/>
          <p:nvPr/>
        </p:nvSpPr>
        <p:spPr>
          <a:xfrm>
            <a:off x="1530000" y="11736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"/>
          <p:cNvSpPr/>
          <p:nvPr/>
        </p:nvSpPr>
        <p:spPr>
          <a:xfrm>
            <a:off x="2735640" y="912960"/>
            <a:ext cx="21726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画一个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厘米、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厘米的长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KSO_Shape"/>
          <p:cNvSpPr/>
          <p:nvPr/>
        </p:nvSpPr>
        <p:spPr>
          <a:xfrm>
            <a:off x="642960" y="2143080"/>
            <a:ext cx="2023920" cy="635040"/>
          </a:xfrm>
          <a:prstGeom prst="roundRect">
            <a:avLst>
              <a:gd name="adj" fmla="val 16667"/>
            </a:avLst>
          </a:prstGeom>
          <a:solidFill>
            <a:srgbClr val="cf7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64"/>
          <p:cNvSpPr/>
          <p:nvPr/>
        </p:nvSpPr>
        <p:spPr>
          <a:xfrm>
            <a:off x="655560" y="2292480"/>
            <a:ext cx="2544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阅读与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Picture 10" descr="E:\2017秋上·黄倩\其他\人\蜜蜂.gif蜜蜂"/>
          <p:cNvPicPr/>
          <p:nvPr/>
        </p:nvPicPr>
        <p:blipFill>
          <a:blip r:embed="rId8"/>
          <a:stretch/>
        </p:blipFill>
        <p:spPr>
          <a:xfrm>
            <a:off x="4861080" y="4857840"/>
            <a:ext cx="993600" cy="109512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7"/>
          <p:cNvSpPr/>
          <p:nvPr/>
        </p:nvSpPr>
        <p:spPr>
          <a:xfrm>
            <a:off x="2774880" y="3371760"/>
            <a:ext cx="428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知道长方形的                  、       ，要画出这个长方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11"/>
          <p:cNvSpPr/>
          <p:nvPr/>
        </p:nvSpPr>
        <p:spPr>
          <a:xfrm>
            <a:off x="2700360" y="3371760"/>
            <a:ext cx="4300560" cy="1271520"/>
          </a:xfrm>
          <a:prstGeom prst="wedgeRoundRectCallout">
            <a:avLst>
              <a:gd name="adj1" fmla="val -2851"/>
              <a:gd name="adj2" fmla="val 7419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4917960" y="3786120"/>
            <a:ext cx="1368720" cy="360"/>
            <a:chOff x="4917960" y="3786120"/>
            <a:chExt cx="1368720" cy="360"/>
          </a:xfrm>
        </p:grpSpPr>
        <p:sp>
          <p:nvSpPr>
            <p:cNvPr id="1033" name="Line 16"/>
            <p:cNvSpPr/>
            <p:nvPr/>
          </p:nvSpPr>
          <p:spPr>
            <a:xfrm>
              <a:off x="4917960" y="3786120"/>
              <a:ext cx="1368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4917960" y="378612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928960" y="4143240"/>
            <a:ext cx="1285920" cy="360"/>
            <a:chOff x="2928960" y="4143240"/>
            <a:chExt cx="1285920" cy="360"/>
          </a:xfrm>
        </p:grpSpPr>
        <p:sp>
          <p:nvSpPr>
            <p:cNvPr id="1036" name="Line 16"/>
            <p:cNvSpPr/>
            <p:nvPr/>
          </p:nvSpPr>
          <p:spPr>
            <a:xfrm>
              <a:off x="2928960" y="4143240"/>
              <a:ext cx="1285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2928960" y="4143240"/>
              <a:ext cx="1285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Text Box 32"/>
          <p:cNvSpPr/>
          <p:nvPr/>
        </p:nvSpPr>
        <p:spPr>
          <a:xfrm>
            <a:off x="5279760" y="335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32"/>
          <p:cNvSpPr/>
          <p:nvPr/>
        </p:nvSpPr>
        <p:spPr>
          <a:xfrm>
            <a:off x="3351240" y="375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八边形 7"/>
          <p:cNvSpPr/>
          <p:nvPr/>
        </p:nvSpPr>
        <p:spPr>
          <a:xfrm>
            <a:off x="314280" y="9237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 Box 4"/>
          <p:cNvSpPr/>
          <p:nvPr/>
        </p:nvSpPr>
        <p:spPr>
          <a:xfrm>
            <a:off x="3585960" y="3282840"/>
            <a:ext cx="1968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画一条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分别过线段的两个端点在同一侧画两条与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互相垂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厘米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把两条垂线的另一个端点连接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Picture 5" descr="92a"/>
          <p:cNvPicPr/>
          <p:nvPr/>
        </p:nvPicPr>
        <p:blipFill>
          <a:blip r:embed="rId1"/>
          <a:stretch/>
        </p:blipFill>
        <p:spPr>
          <a:xfrm>
            <a:off x="828720" y="2781360"/>
            <a:ext cx="1938240" cy="76320"/>
          </a:xfrm>
          <a:prstGeom prst="rect">
            <a:avLst/>
          </a:prstGeom>
          <a:ln w="0">
            <a:noFill/>
          </a:ln>
        </p:spPr>
      </p:pic>
      <p:grpSp>
        <p:nvGrpSpPr>
          <p:cNvPr id="1043" name="Group 6"/>
          <p:cNvGrpSpPr/>
          <p:nvPr/>
        </p:nvGrpSpPr>
        <p:grpSpPr>
          <a:xfrm>
            <a:off x="2916360" y="1844640"/>
            <a:ext cx="2595600" cy="1006560"/>
            <a:chOff x="2916360" y="1844640"/>
            <a:chExt cx="2595600" cy="1006560"/>
          </a:xfrm>
        </p:grpSpPr>
        <p:pic>
          <p:nvPicPr>
            <p:cNvPr id="1044" name="Picture 7" descr="92b"/>
            <p:cNvPicPr/>
            <p:nvPr/>
          </p:nvPicPr>
          <p:blipFill>
            <a:blip r:embed="rId2"/>
            <a:stretch/>
          </p:blipFill>
          <p:spPr>
            <a:xfrm>
              <a:off x="3582720" y="1844640"/>
              <a:ext cx="19292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AutoShape 8"/>
            <p:cNvSpPr/>
            <p:nvPr/>
          </p:nvSpPr>
          <p:spPr>
            <a:xfrm>
              <a:off x="2916360" y="2276640"/>
              <a:ext cx="575640" cy="144000"/>
            </a:xfrm>
            <a:prstGeom prst="rightArrow">
              <a:avLst>
                <a:gd name="adj1" fmla="val 50000"/>
                <a:gd name="adj2" fmla="val 99789"/>
              </a:avLst>
            </a:prstGeom>
            <a:solidFill>
              <a:srgbClr val="99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9"/>
          <p:cNvGrpSpPr/>
          <p:nvPr/>
        </p:nvGrpSpPr>
        <p:grpSpPr>
          <a:xfrm>
            <a:off x="5700600" y="1844640"/>
            <a:ext cx="2600280" cy="1006560"/>
            <a:chOff x="5700600" y="1844640"/>
            <a:chExt cx="2600280" cy="1006560"/>
          </a:xfrm>
        </p:grpSpPr>
        <p:pic>
          <p:nvPicPr>
            <p:cNvPr id="1047" name="Picture 10" descr="92c"/>
            <p:cNvPicPr/>
            <p:nvPr/>
          </p:nvPicPr>
          <p:blipFill>
            <a:blip r:embed="rId3"/>
            <a:stretch/>
          </p:blipFill>
          <p:spPr>
            <a:xfrm>
              <a:off x="6371640" y="1844640"/>
              <a:ext cx="19292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11"/>
            <p:cNvSpPr/>
            <p:nvPr/>
          </p:nvSpPr>
          <p:spPr>
            <a:xfrm>
              <a:off x="5700600" y="2286720"/>
              <a:ext cx="575640" cy="144000"/>
            </a:xfrm>
            <a:prstGeom prst="rightArrow">
              <a:avLst>
                <a:gd name="adj1" fmla="val 50000"/>
                <a:gd name="adj2" fmla="val 99789"/>
              </a:avLst>
            </a:prstGeom>
            <a:solidFill>
              <a:srgbClr val="99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KSO_Shape"/>
          <p:cNvSpPr/>
          <p:nvPr/>
        </p:nvSpPr>
        <p:spPr>
          <a:xfrm>
            <a:off x="500040" y="785880"/>
            <a:ext cx="2023920" cy="635040"/>
          </a:xfrm>
          <a:prstGeom prst="roundRect">
            <a:avLst>
              <a:gd name="adj" fmla="val 16667"/>
            </a:avLst>
          </a:prstGeom>
          <a:solidFill>
            <a:srgbClr val="cf7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4"/>
          <p:cNvSpPr/>
          <p:nvPr/>
        </p:nvSpPr>
        <p:spPr>
          <a:xfrm>
            <a:off x="512640" y="934920"/>
            <a:ext cx="2544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析与画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KSO_Shape"/>
          <p:cNvSpPr/>
          <p:nvPr/>
        </p:nvSpPr>
        <p:spPr>
          <a:xfrm>
            <a:off x="642960" y="1000080"/>
            <a:ext cx="2023920" cy="635040"/>
          </a:xfrm>
          <a:prstGeom prst="roundRect">
            <a:avLst>
              <a:gd name="adj" fmla="val 16667"/>
            </a:avLst>
          </a:prstGeom>
          <a:solidFill>
            <a:srgbClr val="cf7d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4"/>
          <p:cNvSpPr/>
          <p:nvPr/>
        </p:nvSpPr>
        <p:spPr>
          <a:xfrm>
            <a:off x="655560" y="1149480"/>
            <a:ext cx="2544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回顾与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10" descr="E:\2017秋上·黄倩\其他\人\海豚.jpg海豚"/>
          <p:cNvPicPr/>
          <p:nvPr/>
        </p:nvPicPr>
        <p:blipFill>
          <a:blip r:embed="rId1"/>
          <a:stretch/>
        </p:blipFill>
        <p:spPr>
          <a:xfrm>
            <a:off x="2049480" y="3857760"/>
            <a:ext cx="844560" cy="1027080"/>
          </a:xfrm>
          <a:prstGeom prst="rect">
            <a:avLst/>
          </a:prstGeom>
          <a:ln w="0">
            <a:noFill/>
          </a:ln>
        </p:spPr>
      </p:pic>
      <p:sp>
        <p:nvSpPr>
          <p:cNvPr id="1054" name="Text Box 13"/>
          <p:cNvSpPr/>
          <p:nvPr/>
        </p:nvSpPr>
        <p:spPr>
          <a:xfrm>
            <a:off x="2028960" y="2411280"/>
            <a:ext cx="151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你是怎样画出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个长方形的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5529240" y="2424240"/>
            <a:ext cx="151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先画出长方形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长，再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18"/>
          <p:cNvSpPr/>
          <p:nvPr/>
        </p:nvSpPr>
        <p:spPr>
          <a:xfrm>
            <a:off x="1571760" y="2268360"/>
            <a:ext cx="2500200" cy="1052640"/>
          </a:xfrm>
          <a:prstGeom prst="wedgeRoundRectCallout">
            <a:avLst>
              <a:gd name="adj1" fmla="val 5208"/>
              <a:gd name="adj2" fmla="val 8177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9"/>
          <p:cNvSpPr/>
          <p:nvPr/>
        </p:nvSpPr>
        <p:spPr>
          <a:xfrm>
            <a:off x="5072040" y="2214720"/>
            <a:ext cx="2428920" cy="1261800"/>
          </a:xfrm>
          <a:prstGeom prst="wedgeRoundRectCallout">
            <a:avLst>
              <a:gd name="adj1" fmla="val 2680"/>
              <a:gd name="adj2" fmla="val 8385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Picture 20" descr="17"/>
          <p:cNvPicPr/>
          <p:nvPr/>
        </p:nvPicPr>
        <p:blipFill>
          <a:blip r:embed="rId2"/>
          <a:stretch/>
        </p:blipFill>
        <p:spPr>
          <a:xfrm>
            <a:off x="5286240" y="3857760"/>
            <a:ext cx="100044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Text Box 5"/>
          <p:cNvSpPr/>
          <p:nvPr/>
        </p:nvSpPr>
        <p:spPr>
          <a:xfrm>
            <a:off x="1589760" y="1125360"/>
            <a:ext cx="193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一个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的长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6"/>
          <p:cNvSpPr/>
          <p:nvPr/>
        </p:nvSpPr>
        <p:spPr>
          <a:xfrm>
            <a:off x="5954400" y="1125360"/>
            <a:ext cx="17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一个边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"/>
          <p:cNvSpPr/>
          <p:nvPr/>
        </p:nvSpPr>
        <p:spPr>
          <a:xfrm>
            <a:off x="682560" y="31352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要从幸福镇修一条通往公路的水泥路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2" name="Picture 8" descr="68"/>
          <p:cNvPicPr/>
          <p:nvPr/>
        </p:nvPicPr>
        <p:blipFill>
          <a:blip r:embed="rId1"/>
          <a:stretch/>
        </p:blipFill>
        <p:spPr>
          <a:xfrm>
            <a:off x="5413320" y="3927600"/>
            <a:ext cx="2274840" cy="2160360"/>
          </a:xfrm>
          <a:prstGeom prst="rect">
            <a:avLst/>
          </a:prstGeom>
          <a:ln w="0">
            <a:noFill/>
          </a:ln>
        </p:spPr>
      </p:pic>
      <p:grpSp>
        <p:nvGrpSpPr>
          <p:cNvPr id="1063" name="Group 9"/>
          <p:cNvGrpSpPr/>
          <p:nvPr/>
        </p:nvGrpSpPr>
        <p:grpSpPr>
          <a:xfrm>
            <a:off x="1438200" y="4508640"/>
            <a:ext cx="3384720" cy="952200"/>
            <a:chOff x="1438200" y="4508640"/>
            <a:chExt cx="3384720" cy="952200"/>
          </a:xfrm>
        </p:grpSpPr>
        <p:pic>
          <p:nvPicPr>
            <p:cNvPr id="1064" name="Picture 10" descr="E:\2017秋上·黄倩\其他\人\海豚.jpg海豚"/>
            <p:cNvPicPr/>
            <p:nvPr/>
          </p:nvPicPr>
          <p:blipFill>
            <a:blip r:embed="rId2"/>
            <a:stretch/>
          </p:blipFill>
          <p:spPr>
            <a:xfrm>
              <a:off x="1438200" y="4508640"/>
              <a:ext cx="783360" cy="9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AutoShape 27"/>
            <p:cNvSpPr/>
            <p:nvPr/>
          </p:nvSpPr>
          <p:spPr>
            <a:xfrm>
              <a:off x="2508120" y="4641840"/>
              <a:ext cx="2314800" cy="502560"/>
            </a:xfrm>
            <a:prstGeom prst="wedgeRoundRectCallout">
              <a:avLst>
                <a:gd name="adj1" fmla="val -58203"/>
                <a:gd name="adj2" fmla="val 348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怎样修路最近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7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0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2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4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7" name="Rectangle 64"/>
          <p:cNvSpPr/>
          <p:nvPr/>
        </p:nvSpPr>
        <p:spPr>
          <a:xfrm>
            <a:off x="534960" y="241200"/>
            <a:ext cx="2473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文本框 99"/>
          <p:cNvSpPr/>
          <p:nvPr/>
        </p:nvSpPr>
        <p:spPr>
          <a:xfrm>
            <a:off x="293760" y="1073160"/>
            <a:ext cx="806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判断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长方形的长和宽就可以画长方形。        （　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条直线相交时，这两条直线互相垂直。　　　（　 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1"/>
          <p:cNvSpPr/>
          <p:nvPr/>
        </p:nvSpPr>
        <p:spPr>
          <a:xfrm>
            <a:off x="7551720" y="1781280"/>
            <a:ext cx="2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12"/>
          <p:cNvSpPr/>
          <p:nvPr/>
        </p:nvSpPr>
        <p:spPr>
          <a:xfrm>
            <a:off x="7561440" y="2314440"/>
            <a:ext cx="2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2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32"/>
          <p:cNvSpPr/>
          <p:nvPr/>
        </p:nvSpPr>
        <p:spPr>
          <a:xfrm>
            <a:off x="293760" y="900000"/>
            <a:ext cx="844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画长方形的方法：先画一条线段作长方形的长，再从画出的线段两端画两条与这条线段垂直的线段，使画出的两条线段长度相等，最后把所画的两条线段另外的端点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05:56:24Z</dcterms:created>
  <dc:creator/>
  <dc:description/>
  <dc:language>en-US</dc:language>
  <cp:lastModifiedBy>万润仪器贸易公司</cp:lastModifiedBy>
  <dcterms:modified xsi:type="dcterms:W3CDTF">2020-08-21T08:57:14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